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2.wmf" ContentType="image/x-wmf"/>
  <Override PartName="/ppt/media/image95.png" ContentType="image/png"/>
  <Override PartName="/ppt/media/image51.wmf" ContentType="image/x-wmf"/>
  <Override PartName="/ppt/media/image94.png" ContentType="image/png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31.wmf" ContentType="image/x-wmf"/>
  <Override PartName="/ppt/media/image30.wmf" ContentType="image/x-wmf"/>
  <Override PartName="/ppt/media/image41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53.wmf" ContentType="image/x-wmf"/>
  <Override PartName="/ppt/media/image96.png" ContentType="image/png"/>
  <Override PartName="/ppt/media/image13.png" ContentType="image/png"/>
  <Override PartName="/ppt/media/image1.png" ContentType="image/pn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26.png" ContentType="image/png"/>
  <Override PartName="/ppt/media/image36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91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20.wmf" ContentType="image/x-wmf"/>
  <Override PartName="/ppt/media/image57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4825" cy="9752013"/>
  <p:custShowLst>
    <p:custShow name="Das unangeregte Wasserstoffatom" id="0">
      <p:sldLst>
        <p:sld r:id="rId38"/>
        <p:sld r:id="rId36"/>
        <p:sld r:id="rId37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</p:sldLst>
    </p:custShow>
    <p:custShow name="Wasserstoffähnliche Atome" id="1">
      <p:sldLst>
        <p:sld r:id="rId53"/>
        <p:sld r:id="rId36"/>
        <p:sld r:id="rId37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  <p:sld r:id="rId90"/>
        <p:sld r:id="rId91"/>
        <p:sld r:id="rId92"/>
        <p:sld r:id="rId93"/>
        <p:sld r:id="rId94"/>
        <p:sld r:id="rId95"/>
        <p:sld r:id="rId96"/>
        <p:sld r:id="rId97"/>
        <p:sld r:id="rId98"/>
        <p:sld r:id="rId99"/>
        <p:sld r:id="rId100"/>
        <p:sld r:id="rId101"/>
        <p:sld r:id="rId102"/>
        <p:sld r:id="rId103"/>
        <p:sld r:id="rId52"/>
      </p:sldLst>
    </p:custShow>
    <p:custShow name="Best of" id="2">
      <p:sldLst>
        <p:sld r:id="rId54"/>
        <p:sld r:id="rId60"/>
        <p:sld r:id="rId64"/>
        <p:sld r:id="rId69"/>
        <p:sld r:id="rId75"/>
        <p:sld r:id="rId99"/>
        <p:sld r:id="rId100"/>
        <p:sld r:id="rId102"/>
        <p:sld r:id="rId103"/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9E37-21A0-4824-A8BE-B9635B3B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B224-4BDC-4B02-BF14-79CBE97B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11A2-A0EF-46BB-AAF8-60D9EA96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F409-60F2-4464-B6A2-FA4EB039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B98A-FAF1-499C-9490-79F87B71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F3A9-9822-40F1-842C-DF248AC6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5D99-253A-40E1-A238-FB348040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A4D7-AEA8-4C22-9E51-FC6C6A54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66CF-6F7D-45CE-B80A-DCC860A9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B7AA-CB80-4C3A-AA9C-6AD05165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63A4-5E2D-45D2-BF48-8E40D982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1261-5E56-40C7-A82B-0179A7BF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5737-7A08-4B14-84CD-2E79C1E8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1AB1-182E-4E2A-87E4-5B931F77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2000-C831-48C8-B2AD-6EC16E85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E326-01B4-413F-9D97-2CB45C18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CD67-6625-4D59-8369-C79A87E8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A28F-2A66-4600-82AE-EA00EFF3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8E5D-4D0E-4038-83DE-AB2F0305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98BF-4045-41B1-9D9A-911FC376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FC5DB-BB3F-475B-B2B8-65B27444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1CB9-A5E0-4021-B4B1-609DEB0D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DB35-4A4B-41BF-A482-E49728A6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0B76-E9D8-4527-B090-DEB67A3B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3E64-440F-4F10-9C36-CDB634C05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7440-44D6-4A58-A958-85725B71C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0.xml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0.xml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8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0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8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0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8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slideLayout" Target="../slideLayouts/slideLayout8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Arial"/>
              </a:rPr>
              <a:t>Physik-Referat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e zeitunabhängige Schrödingergleichung und ihre Anwendu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er Ausdruck wird als Laplace-Operator bezeichnet und kommt in verschiedenen Bereichen der Physik 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17560" y="4000680"/>
          <a:ext cx="570708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4000680"/>
                    <a:ext cx="570708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stellung der Ergeb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14600" cy="18669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219320" y="4000680"/>
            <a:ext cx="2514600" cy="18666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5524560" y="2781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34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place-Operator in Kugelkoordina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ührt man eine Koordinatentransformation in Kugelkoordinaten durch, so erhält man diese Form des Laplace-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4408560"/>
          <a:ext cx="822960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08560"/>
                    <a:ext cx="822960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eschreibung stehender Welle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engleichu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Überlagerung von Well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hematische Beschreibung stehender W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hende W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r betrachten stehende Wellen, die durch die Überlagerung zweier Wellen mit gleicher Frequenz, gleicher Amplitude und gleichem Phasenwinkel, aber entgegengesetzter Laufrichtung ent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en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sche Beschreibung einer von links nach rechts laufenden, sinusförmigen Querw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Zahl k wird auch Wellenzahl genan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5760" y="4000680"/>
          <a:ext cx="589248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4000680"/>
                    <a:ext cx="589248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en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l die Welle von rechts nach links laufen, muss x durch –x erse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305000" y="4000680"/>
          <a:ext cx="653400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4000680"/>
                    <a:ext cx="653400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lagerung von Welle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berlagerung der Wellen durch Addition der Wellengleich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lsammlung S.15 – Summen und Differenzen der Winkelfunk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lagerung von Welle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2457360"/>
          <a:ext cx="822960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57360"/>
                    <a:ext cx="822960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lagerung von Wellen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98592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sche Beschreibung einer stehenden W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fteilung in zeitabhängigen und ortsabhängigen T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51080" y="1981080"/>
          <a:ext cx="46418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1080" y="1981080"/>
                    <a:ext cx="46418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lagerung von Wellen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7114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s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gelkoordi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sind Operato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elle Ableit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Kugelkoordin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Herleitung der Schrödingergleichu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nearer Potentialtopf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erentialgleich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ndlage: Der Lineare Potentialto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Wellenfunktion ist hierbei eine stehende W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ückführung auf eine Differentialgleic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Gesetze befolgt die Lösu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Schrödingergleic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alog zur mechanischen, stehenden W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ntenmechanischen Wahrscheinlichkeitsw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gma / Phi sind zeitabhängige Kompon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38480" y="4000680"/>
          <a:ext cx="466704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4000680"/>
                    <a:ext cx="466704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stellen einer Differentialgleichung durch zweimaliges differenzieren nach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i ist hierbei als Konstante zu betrachten, da sie eine zeitabhängige Komponente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68360" y="1981080"/>
          <a:ext cx="46072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981080"/>
                    <a:ext cx="46072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rachtet man eine Welle im 3D Raum, so erweitert sich der Ausdruck auf der linken Se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4002120"/>
          <a:ext cx="822960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002120"/>
                    <a:ext cx="822960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-Broglie Wellen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behandeln die Wellenfunktion eines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Quantenobjek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=&gt;de-Brog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sammenhang zwischen Wellenzahl und Impu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722840" y="1981080"/>
          <a:ext cx="38876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2840" y="1981080"/>
                    <a:ext cx="38876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003640" y="4000680"/>
          <a:ext cx="3326040" cy="186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4000680"/>
                    <a:ext cx="332604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iebetrach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beschriebene Elektron besitzt Impuls und damit auch kinetisch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Gesamtenergie besteht aus der potentiellen Energie und der kinetischen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565360" y="4000680"/>
          <a:ext cx="401148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4000680"/>
                    <a:ext cx="401148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Zusammenführen der Ergebnis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-Brog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ergiebetrach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84240" y="4000680"/>
          <a:ext cx="717408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000680"/>
                    <a:ext cx="717408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398592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unabhängige Schrödingerglei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Wellenfunk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ines Quantenobjektes in einem Potential muss diese Gleichung erfül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2058840"/>
          <a:ext cx="8229600" cy="17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8840"/>
                    <a:ext cx="8229600" cy="17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chreibung stehender W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rleitung de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chrödingergleic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-Brog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ergiebetrach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rmierung der Wellenfunk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ösung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der Schrödingergleic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ierung der Wellenfunktion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erung, dass die Wahrscheinlichkeit, das Teilchen irgendwo zu finden, für alle Zeitpunkte genau Eins sein m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195720" y="4000680"/>
          <a:ext cx="275112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5720" y="4000680"/>
                    <a:ext cx="275112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onäre Zustä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Dichte der Aufenthaltswahrscheinlichkeit hängt nicht von der Zeit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4197240"/>
          <a:ext cx="8229600" cy="14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97240"/>
                    <a:ext cx="822960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eiteres Programm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Das unangeregte Wasserstoffa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Wasserstoffähnliche At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unabhängige Schrödingergleich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benbeding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48320" y="2319480"/>
          <a:ext cx="4038480" cy="118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9480"/>
                    <a:ext cx="403848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415120" y="4000680"/>
          <a:ext cx="2504880" cy="186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5120" y="4000680"/>
                    <a:ext cx="250488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Coulomb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einer positiven Punktladung stellt für ein Elektron einen Trichter 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4000680"/>
            <a:ext cx="4038480" cy="186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5099040" y="1981080"/>
          <a:ext cx="313704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99040" y="1981080"/>
                    <a:ext cx="3137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as unangeregte Wasserstoffatom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Coulombpotential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Einfache Lösung der Schrödingergleich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ösungsans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Elektron will möglichst nahe an den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ktion kann nicht bei r=0 konzentriert sein, da die Unschärferelation gi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919240" y="4000680"/>
          <a:ext cx="330372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240" y="4000680"/>
                    <a:ext cx="330372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Problem ist kugelsymmetr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Laplace-Operator vereinfacht sich, da die Winkelableitungen Null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019160" y="4000680"/>
          <a:ext cx="710424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4000680"/>
                    <a:ext cx="710424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benrechnung für unseren Lösungsans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 die Funktion anw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648320" y="2273400"/>
          <a:ext cx="4038480" cy="12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73400"/>
                    <a:ext cx="403848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648320" y="4110120"/>
          <a:ext cx="4038480" cy="16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0120"/>
                    <a:ext cx="403848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ösen der Schrödingergleichu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666880" y="1981080"/>
          <a:ext cx="3810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81080"/>
                    <a:ext cx="3810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athematische Grundlage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gelkoordinaten, Operator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elle Ableitun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ösen der Schrödingergleichung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Gesamtenergie ist unabhängig von der Entfernung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t „zufällig“ der Atomradius, der von Bohr errechnet wu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4221000"/>
          <a:ext cx="8229600" cy="14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22960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ösen der Schrödingergleichung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695680" y="1981080"/>
          <a:ext cx="37512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5680" y="1981080"/>
                    <a:ext cx="3751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ierung der Wellenfunk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88920" y="1981080"/>
          <a:ext cx="29750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981080"/>
                    <a:ext cx="29750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797360" y="1981080"/>
          <a:ext cx="373860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7360" y="1981080"/>
                    <a:ext cx="3738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ie Wellenfunk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arstellung der Ergebnis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Wellenfunktio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Funktion, die die Wahrscheinlichkeits-Amplitude angibt ist nun vollstä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Wahrscheinlichkeitsdichte wird durc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geg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853160" y="1981080"/>
          <a:ext cx="362736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3160" y="1981080"/>
                    <a:ext cx="362736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4800600" y="4000680"/>
          <a:ext cx="3733920" cy="186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000680"/>
                    <a:ext cx="373392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Wellenfunktio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s interessiert die Wahrscheinlichkeit, mit der das Elektron innerhalb einer Kugelschale mit dem Radius r und der Dicke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 zu finden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73400" y="4000680"/>
          <a:ext cx="459576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3400" y="4000680"/>
                    <a:ext cx="459576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Wellenfunktion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28560" y="2552760"/>
            <a:ext cx="3695760" cy="2743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819680" y="2552760"/>
            <a:ext cx="36957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Wellenfunktion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Wahrscheinlichkeitsfunktion hat im Bohrschen Radius a ein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Elektron läuft nicht auf einer streng definierten Bahn, wie Bohr es dach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räumliche Darstellung bringt eine „Wahrscheinlichkeitswolke“ bzw. „Orbital“ her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Weiteres Programm ?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Best of „Wasserstoffähnliche Atom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„Wasserstoffähnliche Atom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gelkoordinate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2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3 Koordi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stand zum Ursprung: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kel zwischen z-Achse und dem Stützvektor: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kel zwischen x-Achse und der Projektion des Stützvektors auf die xy-Ebene: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sserstoffähnliche Atom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ulombpotential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eparation der Schrödingergleichu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ösung der Differentialgleich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ionsansatz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Partielle Differentialglei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stellung der gesuchten Lösung als Produkt aus winkelabhängigen und abstandsabhängigen Funk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7200" y="4248000"/>
          <a:ext cx="82296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48000"/>
                    <a:ext cx="8229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57200" y="2216160"/>
          <a:ext cx="822960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16160"/>
                    <a:ext cx="822960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57200" y="2544840"/>
          <a:ext cx="822960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44840"/>
                    <a:ext cx="822960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74640" y="1981080"/>
          <a:ext cx="77929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981080"/>
                    <a:ext cx="77929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beiden Seiten der Gleichungen sind voneinander unabhängig, daher muss es e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st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ben, die den jeweiligen Seite glei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se Konstante heißt Separationsk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 wählen als Konstante L(L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4570560"/>
          <a:ext cx="822960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0560"/>
                    <a:ext cx="82296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wischenergebni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 einer partiellen Differentialgleichung, haben wir eine normale Differentialgleichung und noch eine partielle Differentialgleichung gem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557360" y="4000680"/>
          <a:ext cx="602928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7360" y="4000680"/>
                    <a:ext cx="602928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ionsansatz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ch eine partielle Differentialgleichu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stellung der winkelabhängigen Funktion als Produkt zweier Funk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4149720"/>
          <a:ext cx="822960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49720"/>
                    <a:ext cx="822960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kel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189080" y="1981080"/>
          <a:ext cx="67658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9080" y="1981080"/>
                    <a:ext cx="6765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kel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ch hier sind die beiden Seiten der Gleichung voneinander unabhäng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 führen wieder eine Separationskonstante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mal bezeichnen wir sie m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4373640"/>
          <a:ext cx="82296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73640"/>
                    <a:ext cx="82296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gelkoordinate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388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604880" y="1981080"/>
          <a:ext cx="174312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981080"/>
                    <a:ext cx="17431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521000" y="4000680"/>
          <a:ext cx="1911240" cy="186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4000680"/>
                    <a:ext cx="191124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wischenergebni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 der letzten partiellen Differentialgleichung sind nun zwei gewöhnliche Differentialgleichungen ge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 haben nun insgesamt 3 Differentialgleichungen, in denen jeweils nur eine der Kugelkoordinaten vorkom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wischenergebnis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681200" y="1981080"/>
          <a:ext cx="57801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1981080"/>
                    <a:ext cx="5780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ösung der Differentialgleichung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Azimutalgleichung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Polargleichung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Radialgleich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ffffff"/>
                </a:solidFill>
                <a:latin typeface="Arial"/>
              </a:rPr>
              <a:t>Die Azimutalgleichu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zimutal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Lösungsansatz nehmen wir eine Exponentialfunk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lexe Zahl 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i²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lersche Form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862520" y="1981080"/>
          <a:ext cx="36100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1981080"/>
                    <a:ext cx="36100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4648320" y="4202280"/>
          <a:ext cx="4038480" cy="14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202280"/>
                    <a:ext cx="403848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zimutal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Funktion hat die Periode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Funktion muss noch normalisier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475240" y="1981080"/>
          <a:ext cx="23828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240" y="1981080"/>
                    <a:ext cx="23828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4648320" y="4233960"/>
          <a:ext cx="4038480" cy="13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233960"/>
                    <a:ext cx="40384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ösung der Azimutalgleich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Zahl m heiß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etquantenz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 bestimmt das Verhalten des Elektrons in einem Magnetf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kann die Werte von –L bis L, also 2L+1 verschiedene Werte an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996920" y="4000680"/>
          <a:ext cx="514836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4000680"/>
                    <a:ext cx="514836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ie Polargleichu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217600"/>
          <a:ext cx="8229600" cy="13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17600"/>
                    <a:ext cx="822960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Differentialgleichung stellt in dieser Form ein unbekanntes Problem 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Umformungen wird die Differentialgleichung auf ein gelöstes Problem zurückgefü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2135160"/>
          <a:ext cx="403848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5160"/>
                    <a:ext cx="403848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380200" y="1981080"/>
          <a:ext cx="257328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0200" y="1981080"/>
                    <a:ext cx="25732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648320" y="4308480"/>
          <a:ext cx="4038480" cy="125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308480"/>
                    <a:ext cx="403848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sind Operator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Abbildung, die jedem Element eines abstrakten Raumes X eindeutig ein Element eines eventuellen anderen abstrakten Raumes Y zuordnet, wird Operator genannt.“…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Brons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&gt;Vorschrift, wie man etwas methodisch zu behandeln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gleichung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Lösen dieser Differentialgleichung ist sehr aufwendi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=&gt; Legendresche Differentialglei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sungen dieser DGl sind Legendresche Poly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648320" y="2289240"/>
          <a:ext cx="4038480" cy="12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9240"/>
                    <a:ext cx="403848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648320" y="4105440"/>
          <a:ext cx="4038480" cy="165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05440"/>
                    <a:ext cx="403848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gleichung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Funktion muss noch normalisier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Quadrat des Polynoms zu integrieren ist auch zu aufwendig, um gezeigt zu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Normierungsfunktion N laut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793880" y="4000680"/>
          <a:ext cx="555480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3880" y="4000680"/>
                    <a:ext cx="555480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ösung der Polargleich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Zahl L heiß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ebenquantenz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gibt die Art von Orbital an, daher wird sie auch Orbitalquantenzahl gen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 kann die Werte von 0 bi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1 anneh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4378320"/>
          <a:ext cx="8229600" cy="11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78320"/>
                    <a:ext cx="822960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ie Radialgleichu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 besteht auch das Problem, dass die Differentialgleichung in der jetzigen Form ein unbekanntes Problem darstell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2301840"/>
          <a:ext cx="8229600" cy="12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01840"/>
                    <a:ext cx="822960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68480" y="1981080"/>
          <a:ext cx="7005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1981080"/>
                    <a:ext cx="7005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57440" y="1981080"/>
          <a:ext cx="58291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1981080"/>
                    <a:ext cx="5829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passung der Differentialoperato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wir nun alles in Abhängigkeit v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sgedrückt haben, müssen wir die Differentialoperatoren entsprechend an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4032360"/>
          <a:ext cx="822960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032360"/>
                    <a:ext cx="82296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860400" y="1981080"/>
          <a:ext cx="74217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1981080"/>
                    <a:ext cx="74217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nzwert der Radialgleichu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ür sehr große r ist der erste Teil der Differentialgleichung vernachlässig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konzentriert sich zunächst auf diese Differentialgleich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648320" y="4102200"/>
          <a:ext cx="4038480" cy="16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102200"/>
                    <a:ext cx="403848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648320" y="2409840"/>
          <a:ext cx="403848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409840"/>
                    <a:ext cx="40384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e für Operat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403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spiele für Operat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lschreibw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LK S.1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19560" y="1981080"/>
          <a:ext cx="309420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9560" y="1981080"/>
                    <a:ext cx="30942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648320" y="4084560"/>
          <a:ext cx="4038480" cy="16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084560"/>
                    <a:ext cx="403848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nzwert der Radialgleichung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 nehmen als Lösungsansatz eine Exponentia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für große Abstände die Wahrscheinlichkeit, auf das Elektron zu treffen gegen Null geht, muss k negativ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516640" y="1981080"/>
          <a:ext cx="2300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6640" y="1981080"/>
                    <a:ext cx="2300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4648320" y="4089240"/>
          <a:ext cx="40384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089240"/>
                    <a:ext cx="40384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nzwert der Radialgleichung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kann davon ausgehen, dass die Lösung der Radialgleichung aus der Lösung für den Grenzwert und einer unbekannten Funktion zusammengesetz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648320" y="2322360"/>
          <a:ext cx="403848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22360"/>
                    <a:ext cx="403848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2050920"/>
          <a:ext cx="822960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0920"/>
                    <a:ext cx="822960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ch an diesem Punkt muss man die Vorstellung über die Lösungsfunktion präzis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Funktion wird wahrscheinlich proportional zu einer Poten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in. Wir führen eine weitere Funktion Lambda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4106880"/>
          <a:ext cx="8229600" cy="16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06880"/>
                    <a:ext cx="822960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V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setzt den neuen Ansatz in die Radialgleichung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57200" y="4062240"/>
          <a:ext cx="822960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062240"/>
                    <a:ext cx="82296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ach sammelt man die Differentialoperator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57200" y="4387680"/>
          <a:ext cx="822960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87680"/>
                    <a:ext cx="822960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n dividieren wir die Radialgleichung durch den Term auf der rechten Seite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ach formen wir die letzte Klammer mit Hilfe der Gleichung rechts 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526000" y="1981080"/>
          <a:ext cx="22813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0" y="1981080"/>
                    <a:ext cx="22813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4648320" y="4678200"/>
          <a:ext cx="403848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678200"/>
                    <a:ext cx="40384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3025800"/>
          <a:ext cx="8229600" cy="17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25800"/>
                    <a:ext cx="822960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nzwert der Radialgleichung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n lassen wir r gegen Null geh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 dem Grenzwert schließen wir auf den Wert v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69800" y="4000680"/>
          <a:ext cx="820440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00680"/>
                    <a:ext cx="820440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X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neuen Erkenntnisse setzen wir in die Radialgleichung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57200" y="4054320"/>
          <a:ext cx="82296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054320"/>
                    <a:ext cx="82296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elle Ablei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eitung einer Funktion, die von mehreren Variablen abhängt, wobei nur eine Variable verändert wird und der Rest als konstant angenomm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„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deutet auf eine partielle Ableitung 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4122720"/>
          <a:ext cx="8229600" cy="16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22720"/>
                    <a:ext cx="822960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Laguerre Differentialgleichu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vorliegende Differentialgleichung ähnelt sehr stark einer Differentialgleichung, die von Laguerre gelöst wu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57200" y="4222800"/>
          <a:ext cx="82296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2800"/>
                    <a:ext cx="82296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Laguerre Differentialgleichung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n bringen wir die Klammern unserer Differentialgleichung auf die benötigt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648320" y="2898720"/>
          <a:ext cx="4038480" cy="20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898720"/>
                    <a:ext cx="403848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Laguerre Differentialgleichung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guerre fand heraus, dass die Differentialgleichung folgende Lösung besit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403280" y="4000680"/>
          <a:ext cx="633744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000680"/>
                    <a:ext cx="633744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Laguerre Differentialgleichung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nserem Fall ist die Lösung gegeben du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57200" y="4019400"/>
          <a:ext cx="82296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019400"/>
                    <a:ext cx="8229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X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 haben auf dem Weg zu dieser Differentialgleichung einige Substitutionen gemacht, die nun wieder rückgängig gemacht werden müss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648320" y="4537080"/>
          <a:ext cx="40384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537080"/>
                    <a:ext cx="40384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5267160" y="1981080"/>
          <a:ext cx="280044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7160" y="1981080"/>
                    <a:ext cx="28004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X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normalisieren der Funktion wieder sehr aufwendi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her wird das Ergebnis einfach angege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731960" y="4000680"/>
          <a:ext cx="567864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960" y="4000680"/>
                    <a:ext cx="567864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ösung der Radialgleich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Zahl n heiß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uptquantenz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 legt die Grundenergie 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nimmt in unserem Periodensystem die Werte von 1..7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57200" y="4295880"/>
          <a:ext cx="822960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95880"/>
                    <a:ext cx="82296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Zusammenfassung der Ergebniss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arstellung der Ergebnis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Lösung der Schrödingergleich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932040" y="1981080"/>
          <a:ext cx="72799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981080"/>
                    <a:ext cx="72799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iebetrach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720720" y="1981080"/>
          <a:ext cx="77011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981080"/>
                    <a:ext cx="7701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2T10:02:36Z</dcterms:created>
  <dc:creator>Fred-Markus Stober</dc:creator>
  <dc:description/>
  <dc:language>en-US</dc:language>
  <cp:lastModifiedBy>Fred-Markus Stober</cp:lastModifiedBy>
  <dcterms:modified xsi:type="dcterms:W3CDTF">2003-01-18T03:07:30Z</dcterms:modified>
  <cp:revision>49</cp:revision>
  <dc:subject/>
  <dc:title>Physik Referat</dc:title>
</cp:coreProperties>
</file>